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BDB-86F7-4FE5-BFD8-40E8F2A6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88F-2A4F-46C1-8FDF-49160A30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758-50E5-48BC-9862-37A91017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35F-0902-4BE9-836E-0B6838F2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5A7-58DF-40EA-91A1-C7F85E0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405-F8AB-4604-86A4-95C7DAB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D38-5F28-4D2C-8D73-3569901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F5D-E122-4DED-9608-FB93E066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1C9-4038-438F-85B9-5655E548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5D2-1F91-493B-AEBA-0AF4884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263-91D0-401D-A626-1252A72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E58-0A59-48E9-BA87-F1CA13D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AF2D-6BAC-4988-BF40-FE693E18E0B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양쪽 모서리가 둥근 사각형 14"/>
          <p:cNvSpPr/>
          <p:nvPr/>
        </p:nvSpPr>
        <p:spPr>
          <a:xfrm rot="5400000">
            <a:off x="8323560" y="-13320"/>
            <a:ext cx="511200" cy="1128600"/>
          </a:xfrm>
          <a:custGeom>
            <a:avLst/>
            <a:gdLst/>
            <a:ahLst/>
            <a:rect l="l" t="t" r="r" b="b"/>
            <a:pathLst>
              <a:path w="511175" h="1128712">
                <a:moveTo>
                  <a:pt x="0" y="0"/>
                </a:moveTo>
                <a:lnTo>
                  <a:pt x="511175" y="0"/>
                </a:lnTo>
                <a:lnTo>
                  <a:pt x="511175" y="0"/>
                </a:lnTo>
                <a:lnTo>
                  <a:pt x="511175" y="881590"/>
                </a:lnTo>
                <a:cubicBezTo>
                  <a:pt x="511175" y="1018072"/>
                  <a:pt x="400535" y="1128712"/>
                  <a:pt x="264053" y="1128712"/>
                </a:cubicBezTo>
                <a:lnTo>
                  <a:pt x="247122" y="1128712"/>
                </a:lnTo>
                <a:cubicBezTo>
                  <a:pt x="110640" y="1128712"/>
                  <a:pt x="0" y="1018072"/>
                  <a:pt x="0" y="881590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양쪽 모서리가 둥근 사각형 10"/>
          <p:cNvSpPr/>
          <p:nvPr/>
        </p:nvSpPr>
        <p:spPr>
          <a:xfrm rot="5400000">
            <a:off x="3703680" y="-3408480"/>
            <a:ext cx="511200" cy="7918560"/>
          </a:xfrm>
          <a:custGeom>
            <a:avLst/>
            <a:gdLst/>
            <a:ahLst/>
            <a:rect l="l" t="t" r="r" b="b"/>
            <a:pathLst>
              <a:path w="511175" h="7918450">
                <a:moveTo>
                  <a:pt x="255588" y="0"/>
                </a:moveTo>
                <a:lnTo>
                  <a:pt x="255588" y="0"/>
                </a:lnTo>
                <a:cubicBezTo>
                  <a:pt x="396745" y="0"/>
                  <a:pt x="511176" y="114431"/>
                  <a:pt x="511176" y="255588"/>
                </a:cubicBezTo>
                <a:cubicBezTo>
                  <a:pt x="511176" y="2809875"/>
                  <a:pt x="511175" y="5364163"/>
                  <a:pt x="511175" y="7918450"/>
                </a:cubicBezTo>
                <a:lnTo>
                  <a:pt x="511175" y="7918450"/>
                </a:lnTo>
                <a:lnTo>
                  <a:pt x="0" y="7918450"/>
                </a:lnTo>
                <a:lnTo>
                  <a:pt x="0" y="7918450"/>
                </a:lnTo>
                <a:lnTo>
                  <a:pt x="0" y="255588"/>
                </a:lnTo>
                <a:cubicBezTo>
                  <a:pt x="0" y="114431"/>
                  <a:pt x="114431" y="0"/>
                  <a:pt x="255588" y="0"/>
                </a:cubicBez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슬라이드 번호 개체 틀 5"/>
          <p:cNvSpPr/>
          <p:nvPr/>
        </p:nvSpPr>
        <p:spPr>
          <a:xfrm>
            <a:off x="8750160" y="6583320"/>
            <a:ext cx="3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직선 연결선 3"/>
          <p:cNvSpPr/>
          <p:nvPr/>
        </p:nvSpPr>
        <p:spPr>
          <a:xfrm>
            <a:off x="250920" y="1170000"/>
            <a:ext cx="8642160" cy="0"/>
          </a:xfrm>
          <a:prstGeom prst="line">
            <a:avLst/>
          </a:prstGeom>
          <a:ln w="2844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379440" y="1563840"/>
            <a:ext cx="83851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1)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강원 클러스터 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5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개 시군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원주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동해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영월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평창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정선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)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의 지역특산물을 활용하여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</a:rPr>
              <a:t>타시도와 차별화된 지역특화 관광산업 육성 및 글로벌 관광수요 선점 위한 구체적인 실행방안 등을 포함하여 작성바랍니다</a:t>
            </a: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2)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각 슬라이드별 작성요령에 따라 내용 기재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표지를 제외하고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맑은 고딕"/>
              </a:rPr>
              <a:t>15~20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맑은 고딕"/>
              </a:rPr>
              <a:t>장 내외로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작성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서류평가 통과자에 한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발표시간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＇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맑은 고딕"/>
              </a:rPr>
              <a:t>10</a:t>
            </a:r>
            <a:r>
              <a:rPr b="0" lang="ko-KR" sz="1800" spc="-1" strike="noStrike" u="sng">
                <a:solidFill>
                  <a:srgbClr val="000000"/>
                </a:solidFill>
                <a:uFillTx/>
                <a:latin typeface="맑은 고딕"/>
              </a:rPr>
              <a:t>분＇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을 초과되지 않도록 시간 엄수하여 주시기 바랍니다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3) PPT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디자인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및 양식 변경 가능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4)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파워포인트 애니메이션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유료 폰트 등 효과 삽입 지양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1" lang="en-US" sz="1500" spc="-1" strike="noStrike">
                <a:solidFill>
                  <a:srgbClr val="0000ff"/>
                </a:solidFill>
                <a:latin typeface="맑은 고딕"/>
              </a:rPr>
              <a:t>* </a:t>
            </a:r>
            <a:r>
              <a:rPr b="1" lang="ko-KR" sz="1500" spc="-1" strike="noStrike">
                <a:solidFill>
                  <a:srgbClr val="0000ff"/>
                </a:solidFill>
                <a:latin typeface="맑은 고딕"/>
              </a:rPr>
              <a:t>애니메이션</a:t>
            </a:r>
            <a:r>
              <a:rPr b="1" lang="en-US" sz="15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500" spc="-1" strike="noStrike">
                <a:solidFill>
                  <a:srgbClr val="0000ff"/>
                </a:solidFill>
                <a:latin typeface="맑은 고딕"/>
              </a:rPr>
              <a:t>폰트 사용으로 인한 오류 및 발표시간 지연에 대한 책임은 신청팀에 있음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5)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제출기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2024</a:t>
            </a:r>
            <a:r>
              <a:rPr b="1" lang="ko-KR" sz="1800" spc="-1" strike="noStrike">
                <a:solidFill>
                  <a:srgbClr val="0000ff"/>
                </a:solidFill>
                <a:latin typeface="맑은 고딕"/>
              </a:rPr>
              <a:t>년 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6</a:t>
            </a:r>
            <a:r>
              <a:rPr b="1" lang="ko-KR" sz="1800" spc="-1" strike="noStrike">
                <a:solidFill>
                  <a:srgbClr val="0000ff"/>
                </a:solidFill>
                <a:latin typeface="맑은 고딕"/>
              </a:rPr>
              <a:t>월 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20</a:t>
            </a:r>
            <a:r>
              <a:rPr b="1" lang="ko-KR" sz="1800" spc="-1" strike="noStrike">
                <a:solidFill>
                  <a:srgbClr val="0000ff"/>
                </a:solidFill>
                <a:latin typeface="맑은 고딕"/>
              </a:rPr>
              <a:t>일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1" lang="ko-KR" sz="1800" spc="-1" strike="noStrike">
                <a:solidFill>
                  <a:srgbClr val="0000ff"/>
                </a:solidFill>
                <a:latin typeface="맑은 고딕"/>
              </a:rPr>
              <a:t>목요일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), 16:00</a:t>
            </a:r>
            <a:r>
              <a:rPr b="1" lang="ko-KR" sz="1800" spc="-1" strike="noStrike">
                <a:solidFill>
                  <a:srgbClr val="0000ff"/>
                </a:solidFill>
                <a:latin typeface="맑은 고딕"/>
              </a:rPr>
              <a:t>시까지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1" lang="ko-KR" sz="1800" spc="-1" strike="noStrike">
                <a:solidFill>
                  <a:srgbClr val="0000ff"/>
                </a:solidFill>
                <a:latin typeface="맑은 고딕"/>
              </a:rPr>
              <a:t>기한 엄수</a:t>
            </a:r>
            <a:r>
              <a:rPr b="1" lang="en-US" sz="18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6)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제출방법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신청 주관기관으로 사업신청서 및 제출서류 일체를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</a:rPr>
              <a:t>온라인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 제출</a:t>
            </a:r>
            <a:r>
              <a:rPr b="0" lang="en-US" sz="500" spc="-1" strike="noStrike">
                <a:solidFill>
                  <a:srgbClr val="0000ff"/>
                </a:solidFill>
                <a:latin typeface="맑은 고딕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돋움"/>
                <a:ea typeface="돋움"/>
              </a:rPr>
              <a:t>▶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문의처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강원특별자치도경제진흥원 소상공인부 최혜영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T.033-749-3373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직사각형 16"/>
          <p:cNvSpPr/>
          <p:nvPr/>
        </p:nvSpPr>
        <p:spPr>
          <a:xfrm>
            <a:off x="250920" y="1353960"/>
            <a:ext cx="8642160" cy="5257800"/>
          </a:xfrm>
          <a:prstGeom prst="rect">
            <a:avLst/>
          </a:prstGeom>
          <a:noFill/>
          <a:ln w="2844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250920" y="2462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</a:rPr>
              <a:t>서식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</a:rPr>
              <a:t>-6. 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</a:rPr>
              <a:t>사업계획서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lt;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사업계획서 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PT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작성 유의사항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gt;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     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</a:rPr>
              <a:t>※</a:t>
            </a:r>
            <a:r>
              <a:rPr b="0" lang="ko-KR" sz="1600" spc="-1" strike="noStrike">
                <a:solidFill>
                  <a:srgbClr val="ff0000"/>
                </a:solidFill>
                <a:latin typeface="맑은 고딕"/>
              </a:rPr>
              <a:t>본 슬라이드 삭제 후 제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48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50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직사각형 18"/>
          <p:cNvSpPr/>
          <p:nvPr/>
        </p:nvSpPr>
        <p:spPr>
          <a:xfrm>
            <a:off x="393840" y="1197000"/>
            <a:ext cx="835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매출 증대 전략 및 투자유치 방안 등 자금소요 및 조달 계획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정부자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R&amp;D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및 정책자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및 투자자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엔젤투자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 VC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기반 소요자금 조달 방안 및 일정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텍스트 개체 틀 61"/>
          <p:cNvSpPr/>
          <p:nvPr/>
        </p:nvSpPr>
        <p:spPr>
          <a:xfrm>
            <a:off x="460440" y="360360"/>
            <a:ext cx="621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성장전략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자금소요 및 조달계획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56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58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직사각형 18"/>
          <p:cNvSpPr/>
          <p:nvPr/>
        </p:nvSpPr>
        <p:spPr>
          <a:xfrm>
            <a:off x="393840" y="1197000"/>
            <a:ext cx="83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위 사업계획를 토대로 구체적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정량적으로 기재요망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텍스트 개체 틀 61"/>
          <p:cNvSpPr/>
          <p:nvPr/>
        </p:nvSpPr>
        <p:spPr>
          <a:xfrm>
            <a:off x="449280" y="360360"/>
            <a:ext cx="621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업추진계획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세부 추진 계획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64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66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텍스트 개체 틀 61"/>
          <p:cNvSpPr/>
          <p:nvPr/>
        </p:nvSpPr>
        <p:spPr>
          <a:xfrm>
            <a:off x="449280" y="360360"/>
            <a:ext cx="621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업추진계획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주요 추진 계획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92000" y="1268280"/>
          <a:ext cx="7318440" cy="4032360"/>
        </p:xfrm>
        <a:graphic>
          <a:graphicData uri="http://schemas.openxmlformats.org/drawingml/2006/table">
            <a:tbl>
              <a:tblPr/>
              <a:tblGrid>
                <a:gridCol w="1229040"/>
                <a:gridCol w="3044520"/>
                <a:gridCol w="3044880"/>
              </a:tblGrid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구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a4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내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a4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rowSpan="3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매출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매출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추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24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년 상반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맑은 고딕"/>
                        </a:rPr>
                        <a:t>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백만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24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년 하반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맑은 고딕"/>
                        </a:rPr>
                        <a:t>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백만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9356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고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대표자 제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고용인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추정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24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년 상반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맑은 고딕"/>
                        </a:rPr>
                        <a:t>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24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년 하반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맑은 고딕"/>
                        </a:rPr>
                        <a:t>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5760" y="355680"/>
            <a:ext cx="6210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성장전략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시장진입 및 성과창출 전략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72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73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75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직사각형 18"/>
          <p:cNvSpPr/>
          <p:nvPr/>
        </p:nvSpPr>
        <p:spPr>
          <a:xfrm>
            <a:off x="393840" y="1197000"/>
            <a:ext cx="835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내수시장 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: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주 소비자층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시장진출 및 판매전략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그간 실적 등 근거 제시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해외시장 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: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진출 방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글로벌 진출 실적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역량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핵심인력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등 근거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5760" y="351000"/>
            <a:ext cx="6210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성장전략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사업운영 방안 및 사업기대효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80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81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83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직사각형 18"/>
          <p:cNvSpPr/>
          <p:nvPr/>
        </p:nvSpPr>
        <p:spPr>
          <a:xfrm>
            <a:off x="393840" y="1197000"/>
            <a:ext cx="82105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업운영 방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운영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홍보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지역 내 확산 활동 등 전반적인 방안을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직사각형 5"/>
          <p:cNvSpPr/>
          <p:nvPr/>
        </p:nvSpPr>
        <p:spPr>
          <a:xfrm>
            <a:off x="455760" y="4076640"/>
            <a:ext cx="82105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업의 기대효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지역에 대한 경제유발효과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지역 활성화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5760" y="351000"/>
            <a:ext cx="6210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성장전략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성장 목표 및 전략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89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90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92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직사각형 18"/>
          <p:cNvSpPr/>
          <p:nvPr/>
        </p:nvSpPr>
        <p:spPr>
          <a:xfrm>
            <a:off x="393840" y="1197000"/>
            <a:ext cx="8210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벤치마크 경쟁자 파악 근거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벤치마크 경쟁자 대비 차별성 확보 가능 근거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경쟁자와 제휴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전략적 투자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M&amp;A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가능성 근거 제시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IPO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계획 적절성과 타당성 제시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2520" y="355680"/>
            <a:ext cx="649584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팀 구성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대표자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‧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직원의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보유역량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97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98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200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직사각형 18"/>
          <p:cNvSpPr/>
          <p:nvPr/>
        </p:nvSpPr>
        <p:spPr>
          <a:xfrm>
            <a:off x="393840" y="1197000"/>
            <a:ext cx="835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매출 증대에 필요한 대표자의 역량과 업무파트너를 포함한 팀원의 보강 계획 작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대표자 역량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직원 및 업무파트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협약기업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현황 및 역량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향후 고용계획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47480" y="355680"/>
            <a:ext cx="72882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팀 구성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자사의 상품개발 역량 및 기술보호 노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205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206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208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직사각형 18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상품개발을 위한 자사의 자체 개발 역량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상품개발 조직 구성의 현황 근거 제시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상품개발 조직 구성계획과 실현계획 작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2160" y="351000"/>
            <a:ext cx="72882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기업의 사회적 책임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사회적 가치 실천계획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213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214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216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직사각형 18"/>
          <p:cNvSpPr/>
          <p:nvPr/>
        </p:nvSpPr>
        <p:spPr>
          <a:xfrm>
            <a:off x="393840" y="1197000"/>
            <a:ext cx="8499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양질의 일자리 창출을 위한 기업의 사회적 책임에 대한 인식 및 의지 등 작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중소기업 성과공유제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*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비정규직의 정규직화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근로시간 단축 등 사회적 가치 실현을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  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위한 제도 도입 계획 등 작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 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</a:rPr>
              <a:t>* </a:t>
            </a:r>
            <a:r>
              <a:rPr b="0" lang="ko-KR" sz="1100" spc="-1" strike="noStrike">
                <a:solidFill>
                  <a:srgbClr val="0000ff"/>
                </a:solidFill>
                <a:latin typeface="맑은 고딕"/>
              </a:rPr>
              <a:t>중소기업 성과공유제 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ff"/>
                </a:solidFill>
                <a:latin typeface="맑은 고딕"/>
              </a:rPr>
              <a:t>중소기업 근로자의 임금 또는 복지 수준 향상을 위해 사업주가 근로자간에 성과를 공유하는 제도</a:t>
            </a:r>
            <a:r>
              <a:rPr b="0" lang="en-US" sz="1100" spc="-1" strike="noStrike">
                <a:solidFill>
                  <a:srgbClr val="0000ff"/>
                </a:solidFill>
                <a:latin typeface="맑은 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-11160"/>
            <a:ext cx="9144000" cy="218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0" y="11984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24 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강원 치유・의료관광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품 공모전 사업계획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직사각형 9"/>
          <p:cNvSpPr/>
          <p:nvPr/>
        </p:nvSpPr>
        <p:spPr>
          <a:xfrm>
            <a:off x="298440" y="3576600"/>
            <a:ext cx="41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맑은 고딕"/>
              </a:rPr>
              <a:t>※ </a:t>
            </a:r>
            <a:r>
              <a:rPr b="0" lang="ko-KR" sz="1200" spc="-1" strike="noStrike">
                <a:solidFill>
                  <a:srgbClr val="0000ff"/>
                </a:solidFill>
                <a:latin typeface="맑은 고딕"/>
              </a:rPr>
              <a:t>지원사업 신청서 에 기재된 </a:t>
            </a:r>
            <a:r>
              <a:rPr b="0" lang="en-US" sz="1200" spc="-1" strike="noStrike">
                <a:solidFill>
                  <a:srgbClr val="0000ff"/>
                </a:solidFill>
                <a:latin typeface="맑은 고딕"/>
              </a:rPr>
              <a:t>‘</a:t>
            </a:r>
            <a:r>
              <a:rPr b="0" lang="ko-KR" sz="1200" spc="-1" strike="noStrike">
                <a:solidFill>
                  <a:srgbClr val="0000ff"/>
                </a:solidFill>
                <a:latin typeface="맑은 고딕"/>
              </a:rPr>
              <a:t>사업명</a:t>
            </a:r>
            <a:r>
              <a:rPr b="0" lang="en-US" sz="12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ff"/>
                </a:solidFill>
                <a:latin typeface="맑은 고딕"/>
              </a:rPr>
              <a:t>사업아잍템</a:t>
            </a:r>
            <a:r>
              <a:rPr b="0" lang="en-US" sz="1200" spc="-1" strike="noStrike">
                <a:solidFill>
                  <a:srgbClr val="0000ff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ff"/>
                </a:solidFill>
                <a:latin typeface="맑은 고딕"/>
              </a:rPr>
              <a:t>기재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직사각형 10"/>
          <p:cNvSpPr/>
          <p:nvPr/>
        </p:nvSpPr>
        <p:spPr>
          <a:xfrm>
            <a:off x="0" y="5989680"/>
            <a:ext cx="9144000" cy="86832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직각 삼각형 12"/>
          <p:cNvSpPr/>
          <p:nvPr/>
        </p:nvSpPr>
        <p:spPr>
          <a:xfrm rot="5400000">
            <a:off x="414720" y="-419760"/>
            <a:ext cx="2157480" cy="2987640"/>
          </a:xfrm>
          <a:prstGeom prst="rtTriangl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직사각형 16"/>
          <p:cNvSpPr/>
          <p:nvPr/>
        </p:nvSpPr>
        <p:spPr>
          <a:xfrm flipV="1">
            <a:off x="-1080" y="2168280"/>
            <a:ext cx="9144000" cy="46080"/>
          </a:xfrm>
          <a:prstGeom prst="rect">
            <a:avLst/>
          </a:prstGeom>
          <a:solidFill>
            <a:srgbClr val="63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1440000" y="6110280"/>
            <a:ext cx="7380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▶ </a:t>
            </a:r>
            <a:r>
              <a:rPr b="0" lang="ko-KR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업명</a:t>
            </a:r>
            <a:r>
              <a:rPr b="0" lang="en-US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헤드라인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▶ </a:t>
            </a:r>
            <a:r>
              <a:rPr b="0" lang="ko-KR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표자명</a:t>
            </a:r>
            <a:r>
              <a:rPr b="0" lang="en-US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285840" y="23922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사업명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직각 삼각형 20"/>
          <p:cNvSpPr/>
          <p:nvPr/>
        </p:nvSpPr>
        <p:spPr>
          <a:xfrm>
            <a:off x="12600" y="-17640"/>
            <a:ext cx="2998800" cy="2183040"/>
          </a:xfrm>
          <a:prstGeom prst="rtTriangle">
            <a:avLst/>
          </a:pr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85840" y="2967120"/>
            <a:ext cx="17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사업아이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361440"/>
            <a:ext cx="621036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제품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‧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서비스 개요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직사각형 2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제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서비스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소개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제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서비스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개발 동기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제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서비스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의 차별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국내외 목표시장 등 구체적인 설명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8" name="그룹 205" descr=""/>
          <p:cNvPicPr/>
          <p:nvPr/>
        </p:nvPicPr>
        <p:blipFill>
          <a:blip r:embed="rId1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2760" y="351000"/>
            <a:ext cx="6210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문제인식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제품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·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서비스 해결과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00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01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03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76320" y="2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직사각형 18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산업의 이해 정도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경쟁사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선도기업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이해 정도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자사가 보유한 문제점 인지 정도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08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10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직사각형 18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경쟁사 대비 강점 및 약점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경쟁자와의 차별성 기반 경쟁 열위 요소 도출 근거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경쟁 열위 요소에 대한 개선의지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및 노력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텍스트 개체 틀 61"/>
          <p:cNvSpPr/>
          <p:nvPr/>
        </p:nvSpPr>
        <p:spPr>
          <a:xfrm>
            <a:off x="482760" y="351000"/>
            <a:ext cx="6210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문제인식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경쟁자 대비 개선과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85280" y="355680"/>
            <a:ext cx="62103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문제인식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고객의 니즈에 대한 개선과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16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17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19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직사각형 18"/>
          <p:cNvSpPr/>
          <p:nvPr/>
        </p:nvSpPr>
        <p:spPr>
          <a:xfrm>
            <a:off x="330120" y="1197000"/>
            <a:ext cx="835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목표고객 정의 및 구매력 정도 작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고객의 니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혜택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가치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구매력 등 포함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목표고객의 문제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니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기회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정의 및 구매매력도가 높아질 수 있는 근거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고객의 니즈를 혁신적으로 해결하기 위한 방안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36320" y="351000"/>
            <a:ext cx="775332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현가능성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강원 클러스터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개 지역연계 방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24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25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27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직사각형 18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강원 클러스터 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5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개 시군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원주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동해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영월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평창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정선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과 연계하여 지역경제 활성화를 위한 지역연계 등 구체적인 실행방안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강원 클러스터 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5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개 시군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원주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동해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영월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평창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</a:rPr>
              <a:t>정선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과 연계하여 지역소득증대를 구현하기 위한 구체적인 실행방안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파악한 필요요소를 보유하고 있는지 여부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및 향후 방향성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0080" y="355680"/>
            <a:ext cx="62103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현가능성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제품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·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서비스의 개발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(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개선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</a:rPr>
              <a:t>)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방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32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33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35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제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서비스 기술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기능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성능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구현 문제 인식에 대한 평가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제품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서비스를 구현하기 위한 필요요소 인지 정도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파악한 필요요소를 보유하고 있는지 여부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및 향후 방향성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0080" y="360000"/>
            <a:ext cx="621036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실현가능성</a:t>
            </a:r>
            <a:r>
              <a:rPr b="0" lang="ko-KR" sz="2000" spc="-1" strike="noStrike">
                <a:solidFill>
                  <a:srgbClr val="404040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맑은 고딕"/>
              </a:rPr>
              <a:t>: </a:t>
            </a:r>
            <a:r>
              <a:rPr b="1" lang="ko-KR" sz="2000" spc="-1" strike="noStrike">
                <a:solidFill>
                  <a:srgbClr val="404040"/>
                </a:solidFill>
                <a:latin typeface="맑은 고딕"/>
              </a:rPr>
              <a:t>시장 경쟁력 확보 및 강화방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40" name="Group 54"/>
          <p:cNvGrpSpPr/>
          <p:nvPr/>
        </p:nvGrpSpPr>
        <p:grpSpPr>
          <a:xfrm>
            <a:off x="90360" y="379440"/>
            <a:ext cx="320400" cy="304560"/>
            <a:chOff x="90360" y="379440"/>
            <a:chExt cx="320400" cy="304560"/>
          </a:xfrm>
        </p:grpSpPr>
        <p:pic>
          <p:nvPicPr>
            <p:cNvPr id="141" name="Picture 55" descr="shadow_1_m"/>
            <p:cNvPicPr/>
            <p:nvPr/>
          </p:nvPicPr>
          <p:blipFill>
            <a:blip r:embed="rId1"/>
            <a:stretch/>
          </p:blipFill>
          <p:spPr>
            <a:xfrm flipH="1">
              <a:off x="90360" y="379440"/>
              <a:ext cx="320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Oval 56"/>
            <p:cNvSpPr/>
            <p:nvPr/>
          </p:nvSpPr>
          <p:spPr>
            <a:xfrm flipH="1" flipV="1" rot="10723800">
              <a:off x="142920" y="428760"/>
              <a:ext cx="214560" cy="202680"/>
            </a:xfrm>
            <a:prstGeom prst="ellipse">
              <a:avLst/>
            </a:prstGeom>
            <a:gradFill rotWithShape="0">
              <a:gsLst>
                <a:gs pos="0">
                  <a:srgbClr val="4ea88a"/>
                </a:gs>
                <a:gs pos="100000">
                  <a:srgbClr val="418c7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pic>
          <p:nvPicPr>
            <p:cNvPr id="143" name="Picture 57" descr="Picture2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 flipH="1">
              <a:off x="158400" y="446400"/>
              <a:ext cx="177480" cy="10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그룹 205" descr=""/>
          <p:cNvPicPr/>
          <p:nvPr/>
        </p:nvPicPr>
        <p:blipFill>
          <a:blip r:embed="rId3"/>
          <a:stretch/>
        </p:blipFill>
        <p:spPr>
          <a:xfrm>
            <a:off x="79200" y="384120"/>
            <a:ext cx="341640" cy="322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직사각형 18"/>
          <p:cNvSpPr/>
          <p:nvPr/>
        </p:nvSpPr>
        <p:spPr>
          <a:xfrm>
            <a:off x="393840" y="1197000"/>
            <a:ext cx="83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작성요령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매출 증대를 위한 자사의 실현계획 작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주력고객 및 유통채널 확보방안 등 작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보유한 기술의 난이도 및 경쟁력 확보 여부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기술의 고유성 및 독창성</a:t>
            </a:r>
            <a:r>
              <a:rPr b="0" lang="en-US" sz="1600" spc="-1" strike="noStrike">
                <a:solidFill>
                  <a:srgbClr val="0000ff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ff"/>
                </a:solidFill>
                <a:latin typeface="맑은 고딕"/>
              </a:rPr>
              <a:t>시장의 영향력 정도 제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14:54:38Z</dcterms:created>
  <dc:creator>user</dc:creator>
  <dc:description/>
  <cp:keywords/>
  <dc:language>en-US</dc:language>
  <cp:lastModifiedBy>병하 이</cp:lastModifiedBy>
  <cp:lastPrinted>2024-05-31T13:39:12Z</cp:lastPrinted>
  <dcterms:modified xsi:type="dcterms:W3CDTF">2024-06-05T00:23:04Z</dcterms:modified>
  <cp:revision>133</cp:revision>
  <dc:subject/>
  <dc:title>PowerPoint 프레젠테이션</dc:title>
</cp:coreProperties>
</file>